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C48-B5D2-4F44-9B5D-79D5D187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80A-87DB-4017-B1A5-D19ECD3E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47A-9CD1-4E2C-A345-98CA8966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2C4-1894-49F6-9093-9EA1A116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2EC2-5B61-477B-8323-3B67900C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4153-2E4A-4052-8501-227A6EA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7713-9A7A-4DFC-8F5B-F1053E7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95B-BD60-4CE5-BE26-75304973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67CB-7651-4B38-AD29-1C0F2D1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B099-5365-45FD-A929-BFF84C97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17E5-1A15-4C87-AE4C-54938425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A95-F616-4447-8119-B71F1A7F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B797-0D1D-42A3-A539-2A7ADA5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E3E7-66EA-4D3D-9A72-228C4A3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D08F-9D2B-4C18-BC45-36F435E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32F0-2656-4FA2-9F3B-22536243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ACA7-3A64-47D3-9B77-4FC0D668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9B4-89A9-4224-9CDA-883ED8A1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480-C604-4F69-98F3-0E9E7753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478-ECAF-4F1D-9E08-A547C5C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D98-79B1-453A-8D95-E484071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9B3-1BD0-4440-9798-A7E4CA1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D41-EE82-49D7-B9F9-54C222D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0F7-18FD-4A00-B224-6A5198B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D89-D91E-4B0B-BA01-66E70ABBA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6BE-84AD-49CA-AD33-076E696AB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179440"/>
            <a:ext cx="7162920" cy="109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About Contractions</a:t>
            </a: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9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t i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s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13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13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13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471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10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you a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we’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you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5"/>
          <a:stretch/>
        </p:blipFill>
        <p:spPr>
          <a:xfrm>
            <a:off x="41148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13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13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13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471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d of qui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Question 1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you’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. aren’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3"/>
          <a:stretch/>
        </p:blipFill>
        <p:spPr>
          <a:xfrm>
            <a:off x="41148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4"/>
          <a:stretch/>
        </p:blipFill>
        <p:spPr>
          <a:xfrm>
            <a:off x="3049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5"/>
          <a:stretch/>
        </p:blipFill>
        <p:spPr>
          <a:xfrm>
            <a:off x="304920" y="4343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1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3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3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Question 2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Choose the correct contraction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o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do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5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3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are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Question 3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d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5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1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3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3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3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s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s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1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13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13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1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5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 am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do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5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13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3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71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Tahoma"/>
              </a:rPr>
              <a:t>Question 6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e hav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you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we’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5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3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13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13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7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7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 wil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s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5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1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3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1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1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8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e a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are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you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5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13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3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13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71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9:28:13Z</dcterms:created>
  <dc:creator>prussell</dc:creator>
  <dc:description/>
  <dc:language>en-US</dc:language>
  <cp:lastModifiedBy>teacher</cp:lastModifiedBy>
  <cp:lastPrinted>2002-05-14T19:28:58Z</cp:lastPrinted>
  <dcterms:modified xsi:type="dcterms:W3CDTF">2011-03-24T14:55:16Z</dcterms:modified>
  <cp:revision>12</cp:revision>
  <dc:subject/>
  <dc:title>Quiz About [Your topic] </dc:title>
</cp:coreProperties>
</file>